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CD5-9BBA-4899-AD00-896595BD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D2D-A865-45E8-BF33-608AB3EF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A8B-3E26-4535-B228-A750434D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D1C-E87B-4373-AFCD-EFE19368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75C-D9D8-49B3-B7F0-5ACD85EF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2E1-86CB-419D-9DC2-9B6ACE02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095-ABB0-41CE-BD96-ECDE3609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711-F6A3-4452-8633-5ADD9BA4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C4E-5E7D-4BD5-88C7-89691C9A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643-87A6-496F-BFCD-D2F7BFC8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D8D-7A16-48E6-A275-496CE52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D0E-194B-4719-A1A6-B720AD3F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AED9-571B-442C-B55E-23849531C3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 Low-cost Extendable Framework for Embedded Smart Ca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ecurity Syste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process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ing applic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exibility and portabl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ss Cost and comp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security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ert syste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mized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oID Face Datab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hang Yu, “Research on High Level Model and Performance Estimation” Southeast University PHD thesis, 2007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.microcontroller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resko, J., "Winning with wireless," Industry Week, 252(6), Available ProQuest, 200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Obtainable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Proposed Syste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iagram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Block Definit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Application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Merit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implement image-recognition techniques that can provide the important functions required by advanced intelligent Car Security, to avoid vehicle theft and protect the usage of unauthenticated us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ainable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t able to predict information if Car was stol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ditional car security systems rely on many sensors and cost a lo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ysical Ke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arm Syst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Syste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ach to the owner if some one tries to sto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mated functions through image proces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urity maintenance by behavior re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ffective mobile communication for entire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PS module obtains the precise locality by parsing received GPS sig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Group 43"/>
          <p:cNvGrpSpPr/>
          <p:nvPr/>
        </p:nvGrpSpPr>
        <p:grpSpPr>
          <a:xfrm>
            <a:off x="304920" y="1219320"/>
            <a:ext cx="8610480" cy="5410080"/>
            <a:chOff x="304920" y="1219320"/>
            <a:chExt cx="8610480" cy="5410080"/>
          </a:xfrm>
        </p:grpSpPr>
        <p:sp>
          <p:nvSpPr>
            <p:cNvPr id="52" name="Rounded Rectangle 3"/>
            <p:cNvSpPr/>
            <p:nvPr/>
          </p:nvSpPr>
          <p:spPr>
            <a:xfrm>
              <a:off x="30492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wer Supp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ounded Rectangle 4"/>
            <p:cNvSpPr/>
            <p:nvPr/>
          </p:nvSpPr>
          <p:spPr>
            <a:xfrm>
              <a:off x="2535120" y="2982960"/>
              <a:ext cx="196344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icrocontrol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ounded Rectangle 5"/>
            <p:cNvSpPr/>
            <p:nvPr/>
          </p:nvSpPr>
          <p:spPr>
            <a:xfrm>
              <a:off x="2624040" y="4426200"/>
              <a:ext cx="1874880" cy="960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r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ounded Rectangle 6"/>
            <p:cNvSpPr/>
            <p:nvPr/>
          </p:nvSpPr>
          <p:spPr>
            <a:xfrm>
              <a:off x="393480" y="434520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gnition Control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ounded Rectangle 7"/>
            <p:cNvSpPr/>
            <p:nvPr/>
          </p:nvSpPr>
          <p:spPr>
            <a:xfrm>
              <a:off x="4856400" y="2982960"/>
              <a:ext cx="18730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S23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7443360" y="4425480"/>
              <a:ext cx="134568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" descr=""/>
            <p:cNvPicPr/>
            <p:nvPr/>
          </p:nvPicPr>
          <p:blipFill>
            <a:blip r:embed="rId2"/>
            <a:stretch/>
          </p:blipFill>
          <p:spPr>
            <a:xfrm>
              <a:off x="7532640" y="2661840"/>
              <a:ext cx="138276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4" descr=""/>
            <p:cNvPicPr/>
            <p:nvPr/>
          </p:nvPicPr>
          <p:blipFill>
            <a:blip r:embed="rId3"/>
            <a:stretch/>
          </p:blipFill>
          <p:spPr>
            <a:xfrm>
              <a:off x="393840" y="5707800"/>
              <a:ext cx="1505520" cy="9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ounded Rectangle 12"/>
            <p:cNvSpPr/>
            <p:nvPr/>
          </p:nvSpPr>
          <p:spPr>
            <a:xfrm>
              <a:off x="2535120" y="1700280"/>
              <a:ext cx="18748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PS Recei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ounded Rectangle 13"/>
            <p:cNvSpPr/>
            <p:nvPr/>
          </p:nvSpPr>
          <p:spPr>
            <a:xfrm>
              <a:off x="7353360" y="1219320"/>
              <a:ext cx="1428480" cy="961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SM Mod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>
              <a:off x="3338640" y="5707080"/>
              <a:ext cx="1873080" cy="550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558ed5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M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Straight Arrow Connector 16"/>
            <p:cNvCxnSpPr/>
            <p:nvPr/>
          </p:nvCxnSpPr>
          <p:spPr>
            <a:xfrm>
              <a:off x="217800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4" name="Straight Arrow Connector 23"/>
            <p:cNvCxnSpPr/>
            <p:nvPr/>
          </p:nvCxnSpPr>
          <p:spPr>
            <a:xfrm>
              <a:off x="4498920" y="3463920"/>
              <a:ext cx="3578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5" name="Straight Arrow Connector 24"/>
            <p:cNvCxnSpPr/>
            <p:nvPr/>
          </p:nvCxnSpPr>
          <p:spPr>
            <a:xfrm>
              <a:off x="6729480" y="3463920"/>
              <a:ext cx="7149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6" name="Straight Arrow Connector 26"/>
            <p:cNvCxnSpPr/>
            <p:nvPr/>
          </p:nvCxnSpPr>
          <p:spPr>
            <a:xfrm flipV="1">
              <a:off x="8067960" y="218088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7" name="Straight Arrow Connector 29"/>
            <p:cNvCxnSpPr/>
            <p:nvPr/>
          </p:nvCxnSpPr>
          <p:spPr>
            <a:xfrm flipH="1">
              <a:off x="3516120" y="3944880"/>
              <a:ext cx="360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8" name="Straight Arrow Connector 31"/>
            <p:cNvCxnSpPr/>
            <p:nvPr/>
          </p:nvCxnSpPr>
          <p:spPr>
            <a:xfrm flipV="1">
              <a:off x="8156880" y="3863520"/>
              <a:ext cx="2160" cy="48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9" name="Straight Arrow Connector 33"/>
            <p:cNvCxnSpPr/>
            <p:nvPr/>
          </p:nvCxnSpPr>
          <p:spPr>
            <a:xfrm flipH="1" flipV="1">
              <a:off x="2177280" y="4905000"/>
              <a:ext cx="446760" cy="3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0" name="Straight Arrow Connector 38"/>
            <p:cNvCxnSpPr/>
            <p:nvPr/>
          </p:nvCxnSpPr>
          <p:spPr>
            <a:xfrm flipH="1">
              <a:off x="3516120" y="2662200"/>
              <a:ext cx="3600" cy="321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71" name="Curved Connector 42"/>
            <p:cNvCxnSpPr/>
            <p:nvPr/>
          </p:nvCxnSpPr>
          <p:spPr>
            <a:xfrm flipV="1">
              <a:off x="2089080" y="6108480"/>
              <a:ext cx="1072080" cy="79920"/>
            </a:xfrm>
            <a:prstGeom prst="curvedConnector5">
              <a:avLst>
                <a:gd name="adj1" fmla="val 49983"/>
                <a:gd name="adj2" fmla="val 49773"/>
                <a:gd name="adj3" fmla="val 49983"/>
              </a:avLst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consists of PC memory unit it stores the different driver imag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DS (face detection subsystem) is used to detect the face of the driver and compare it with the predefined imag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the image doesn’t match then the information is send to the owner through M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wner can trace the location through GP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y this system owner can identify the theft image as well as the location of the ca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ompone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icrocontro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ower suppl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eypad se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SM modu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mer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gnition unit | Driver un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Too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il C cross compiler 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lash magic programmer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cad hardware design t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6.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lab7.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gu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bedded 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sual Bas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1:16:03Z</dcterms:created>
  <dc:creator>Electronics Projects</dc:creator>
  <dc:description>Electronics Projects</dc:description>
  <dc:language>en-US</dc:language>
  <cp:lastModifiedBy>admin</cp:lastModifiedBy>
  <dcterms:modified xsi:type="dcterms:W3CDTF">2011-08-26T11:08:43Z</dcterms:modified>
  <cp:revision>0</cp:revision>
  <dc:subject>Electronics Projects</dc:subject>
  <dc:title>ECE IEEE Projects</dc:title>
</cp:coreProperties>
</file>